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D22-78A6-4F68-855C-ADE5286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E9-CED9-4D04-9BB0-ABE118D5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088-16A2-4838-9542-403EF013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0D9-C9D9-42E3-9D65-FF9FB0E4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DBA-ED83-44AC-9E4D-1767A471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05E-0FEB-4EEA-AA28-B7D2EA37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9BE-388B-4331-86A9-5B47973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1BD-22C5-4EFA-B2E8-03D13AF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840-BFA5-4C1F-B7CA-8742049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D44-2E51-49ED-8471-5D9DB93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41-DC7A-4781-B8B3-B621E7D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F7F-3553-481E-84A6-6A8BD7B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34F6-61B4-4C61-8AD2-14879B4F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ct scapula and rotate it to depress glenoid cavity; fix scapula to thoracic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, adducts, and medially rotates humerus; raises body toward arms during climb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inferior pubic ramus, inferior to origin of adductor long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and flexes the thig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margin of pubic symphysis, inferior ramus of pubis, and adjacent ramus of isc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surface of tibial shaft, just posterior to sarto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, adducts the thigh, and helps to medially rotate the tibia on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ddbrevis: "/>
          <p:cNvPicPr/>
          <p:nvPr/>
        </p:nvPicPr>
        <p:blipFill>
          <a:blip r:embed="rId1"/>
          <a:stretch/>
        </p:blipFill>
        <p:spPr>
          <a:xfrm>
            <a:off x="640080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ddbrevis: "/>
          <p:cNvPicPr/>
          <p:nvPr/>
        </p:nvPicPr>
        <p:blipFill>
          <a:blip r:embed="rId2"/>
          <a:stretch/>
        </p:blipFill>
        <p:spPr>
          <a:xfrm>
            <a:off x="716292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body of pubis, just lateral to pubic symph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linea aspera of the femu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and flexes the thigh, and helps to laterally rotate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pubic 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 tuberosity of femur, medial lip of 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o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terior surfaces and lower borders of transverse processes of L1 - L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oes 2 - 5 and dorsi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s and medially rotates humerus; draws scapula anterior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and medial pectoral nerv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plantar 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plantar 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the extensor digitorum longus to dorsiflex, evert and abduct th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aspect of 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rior aspect of interosseous membrane, superior 2/3 of medial posterior surface of fibu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thigh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thigh, flexes the knee, and also rotates the tibia medially, especially when the knee is fl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teral third of the inguinal ligament, from the 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ress the ribs and viscera,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es, retracts and rotates scapula; superior fibers elevate, middle fibers retract, and inferior fibers depress scapula; superior and inferior fibers act together in superior rotation of sca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8-09-25T00:27:22Z</dcterms:modified>
  <cp:revision>17</cp:revision>
  <dc:subject/>
  <dc:title>Muscles</dc:title>
</cp:coreProperties>
</file>